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B02-9927-4C31-85B9-8D252B16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0A0-98AB-42C9-90C9-327985A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72F-A5A1-492E-BFE4-E55E36AB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95F-5032-435A-9859-A761746D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0C20-F1AA-4239-9EA1-E01B2FC7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9402-FCEE-4997-A946-541AB8C5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1160-70C9-4D1B-9A20-7320D857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1A06-670C-497C-81F1-41848957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4DF6-3333-460A-8CBF-4A26D453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030B-21F8-456F-9F33-5C46BC1F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4C90-3106-4E7A-B18B-89609AD5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E0C-769F-4373-AFAB-9E7786F7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FA23-1305-476E-90B6-ECD5180E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FB04-DC4C-4EAF-A95A-44CB9336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ED14-E05A-4D70-9360-FAA9E20A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D777-7A49-463D-AEF4-A96E16A5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E12F-EB60-4198-A181-F6B8F8E5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6793-66FF-409D-983E-A9D5F16F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C471-0DDE-400B-889B-2AF0105F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D28AA-C5CD-4554-9927-7A8084E6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718E-2623-4834-BF1E-09A0DDF8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7273-5F0F-40A3-83E8-88F4F4A9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7B0-22C6-4479-A4CF-9D8A6246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2FFDE-F89A-4B95-864D-83628EFE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B4D4-0B6B-4808-8967-A089AD89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02BC2-305E-421B-ABE2-ABA1904B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6B00-A8E4-4222-8762-00382E68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0BB6-36DD-4063-976D-AF749A6F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D100-75CD-4C60-A713-E1A353A5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D336-6F71-48D2-B5BD-BE483E3B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ED5BF-CDC4-44FD-9FB3-D6CC852D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DC74C-BB93-41DB-AA9B-CBEDFD78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D51C0-7B3C-493B-AEB6-FDFEA9C1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043-393D-4B54-BEBA-521CAF04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A2AF4-FD18-4E6F-BE82-A718A08C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21799-C142-422B-B065-2C998846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65C1D-B998-427C-9CFD-A941807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143FC-CC6C-4968-986D-ABD2CA9A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C77B-B8B0-49C8-8639-25F55D6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9A53-85FE-45BD-AF6D-F1C18A22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F613-C293-461A-B790-CBA5B16E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359B2-5513-43C1-9E16-D6ED0000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0398-544B-47C3-AB86-CA1AD4BB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6D230-AECE-42A0-A472-CB695AD2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992-E595-45AC-975D-25A481D3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B7897-B81D-45D1-8D9C-6163DF86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D408D-877A-4B3A-98D0-7CF06934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62F30-0CAA-4352-90C5-CAEE4A37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8E83A-857F-49BB-9D9A-E0AFAEFF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AF73A-CC3D-44A1-90DF-24E0B9B0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5B45D-01D6-4C24-9F7B-9353F4B7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820B9-46A1-4B86-8E07-2606571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4193-F823-4CA2-BDEB-7CEA2B8B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C39DA-0A7A-468C-9E21-976E09A3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89C4E-0A26-418D-B3B2-61CB4714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040-42C1-40C6-A225-6D0E89AB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25A2A-A562-4062-89FE-B457062E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FA5-CA6E-46AE-B539-DF0BDA21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E67-E921-4504-BD6E-E47C5658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9A4-34E3-4CB0-81D1-EF002945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8213-75AB-4E50-91A8-83B4075AAC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C35D-C116-418E-8EB0-DD5C94CAA6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C6EC-4344-4DCF-AA82-FE74A2D303F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1E4F-D32D-4F2D-858C-688CC13C8CC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5F00-0670-4FA4-BFD5-FF69CA3B1A2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Poetry of the Peop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Balla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Reliques of Ancient English Poetr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a collection of ballads gathered by Thomas Percy and published in 1765; inspired by oth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bjects of ballads – the everyday life of common fol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ten tragic – disappointed love, jealousy, revenge, sudden disaster, deeds of adven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pernatural eve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nsational or sordid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Balla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song or songlike poem that tells a story in a regular pattern of rhythm and rhyme and uses simple, direct languag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e from an oral tradi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strict rules dictating their for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racteristics of balla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imple and direc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ttle or no backgroun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ory developed largely through dialogue – question and answer forma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frain – repetition of the last line or tw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cremental repetition – repetition of previous lines with slight vari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usical – meant to be su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train – 4 lin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eter – iambi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yllables –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8 in the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nd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lin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6 in the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nd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lin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3:38:02Z</dcterms:created>
  <dc:creator>pcoles</dc:creator>
  <dc:description/>
  <dc:language>en-US</dc:language>
  <cp:lastModifiedBy>pcoles</cp:lastModifiedBy>
  <dcterms:modified xsi:type="dcterms:W3CDTF">2009-01-29T00:00:48Z</dcterms:modified>
  <cp:revision>3</cp:revision>
  <dc:subject/>
  <dc:title>Ballads</dc:title>
</cp:coreProperties>
</file>